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4BB-1AA5-4E9F-B04C-BD74B80E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DBD6-70FE-4A9E-9972-89EE6349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2EAF-86F8-486A-AAC2-9BFE8F72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9B6-FB92-44D0-8907-7CF1BC01C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C27-F1E3-4F5D-B252-953BE7D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BB5-A3AE-4408-AD64-6A85D10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49AF-34BF-4BF0-B757-F1A01905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0F59-1EFB-46C8-A686-EB0B10E9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15E-A8D3-40D3-AD7A-0A85789F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0660-A9C0-4A1F-BC37-C038066A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806-409C-47AA-AE74-DEDFEB3F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349-E38C-45C2-9F62-4755B8FD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B2B2-EEB5-4D1B-A1BD-CF57E4DB4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sites.harvard.edu/icb/icb.do?keyword=datawise&amp;pageid=icb.page385820&amp;pageContentId=icb.pagecontent800691&amp;state=maximiz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bstract-design.jpg"/>
          <p:cNvPicPr/>
          <p:nvPr/>
        </p:nvPicPr>
        <p:blipFill>
          <a:blip r:embed="rId1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igh School Principal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fessional Learning Community</a:t>
            </a:r>
            <a:br>
              <a:rPr sz="4000"/>
            </a:b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What story does the data tel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2514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Heather Davis Schmidt, Ed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Missoula County Public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5968"/>
                </a:solidFill>
                <a:latin typeface="Calibri"/>
              </a:rPr>
              <a:t>February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bluewave-white-backgrounds-wallpaper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272960"/>
            <a:ext cx="7315200" cy="115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rgets for today’s mee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14400" y="2769840"/>
            <a:ext cx="7315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te questions abou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 a shared understanding of what we see in the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a priority question to which we are committed to investig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5872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990720" y="0"/>
            <a:ext cx="72039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37960" y="285840"/>
            <a:ext cx="8668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46792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hart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925120" cy="663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378000" y="-6480"/>
            <a:ext cx="8388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Chart 1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8520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ummer-time_1600x12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ta Wise Projec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ard Un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Excel and Power Point Tutori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IND THEM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5T13:55:33Z</dcterms:created>
  <dc:creator>HD</dc:creator>
  <dc:description/>
  <dc:language>en-US</dc:language>
  <cp:lastModifiedBy>HD</cp:lastModifiedBy>
  <dcterms:modified xsi:type="dcterms:W3CDTF">2012-02-15T14:29:54Z</dcterms:modified>
  <cp:revision>8</cp:revision>
  <dc:subject/>
  <dc:title>Slide 1</dc:title>
</cp:coreProperties>
</file>